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3C5D-FA84-4480-B9A7-11828F3F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C99-689B-4FA1-BF7B-5A0850FF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32D-8F77-4E28-B393-100B939D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38F-E675-4866-9FC9-2832DAA5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5CE-F547-4E71-AA51-11FBBE1F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19A-84B7-46FE-80AF-6020000B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82D-9383-4011-A2DA-F534EF93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9D8-1E4E-4153-93A1-CAA2A808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C64-4A04-4114-BAA4-9644EF40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A1C-7444-4C5B-887A-59B9488F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A60-53D8-4CE0-90BB-80F47A15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B8C-FC6B-4A66-B0CB-DB210A36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6B1F-498E-4B8A-8B92-4E8B4FF77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f/" TargetMode="External"/><Relationship Id="rId2" Type="http://schemas.openxmlformats.org/officeDocument/2006/relationships/hyperlink" Target="file://n/" TargetMode="External"/><Relationship Id="rId3" Type="http://schemas.openxmlformats.org/officeDocument/2006/relationships/hyperlink" Target="file://r/" TargetMode="External"/><Relationship Id="rId4" Type="http://schemas.openxmlformats.org/officeDocument/2006/relationships/hyperlink" Target="file://t/" TargetMode="External"/><Relationship Id="rId5" Type="http://schemas.openxmlformats.org/officeDocument/2006/relationships/hyperlink" Target="file://v/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SQL Regular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EXP escape seq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[  ]  |and (  ) and – have special 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clude in a pattern use \\ to escape the normal meaning of the charac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EXP \\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s “find a perio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EXP \\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s “find a dash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o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EXP Metacharac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\\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m f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\\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new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\\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carriage retu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\\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t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\\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vertical t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\\\ is a backsla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: other languages use a single \ to escape; MySQL require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EXP charact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ter or digit: [:alnum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character: [:alpha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ce or tab: [:blank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CII Control Chacters, ASCII 0-31 and127: ^[:cntrl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digit same as [1-0]: [:digit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table characters but not space: [:graph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r-case letters: [:lower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EXP character classes (mor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printable character: [:print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character not alpha and not a digit: [:punct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whitespace character including spaces, tabs, line feeds, carrage returns, form feed or vertical tab: ^[:space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per case alphas: [:upper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hexadecimal digit: [:xdigit:] or [a-fA-F0-9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ching Multiple instances of a patter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charac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matches 0 or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matches 1 or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 Matches 0 or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n} matches exactly this many of preceding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n,} matches at least the n number of m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n,m} specifies an inclusive range of m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metacharac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^ is used to match start of text in a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 is used to match the end of text in a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[:&lt;:]] matches a word that starts with a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[:&gt;:]] matches a word that ends with a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Strings used to match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in a variety of languages,  text editors, and operat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d using Regular Expressio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 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cks to create and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My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SQL offers a limited subset of Regular Expression Language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ked using REGEX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 similarly to L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 more flexi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in WHERE clauses to limit query retu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REGEXP 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d records with a field value containing an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ct matc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a chosen patte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 fieldName REGEXP ‘CCCC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CCC’ is a character pattern to be exactly match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 productLine REGEXP ‘SYM_56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turns only those rows in which the string ‘SYM_56’ appears anywhere withing the productLine fi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s exactly like LIKE except 24 SYM_56 would be accepted with REGEXP but rejected by LIK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REGEXP 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field values that begin with any single character but end in a precise patte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RE productLine REGEXP ‘.CCCC’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. Is any single charac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CCC is a precise character 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productLine REGEXP ‘.YM_56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s all fields with strings that begin with any character but then contain exactly YM_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: LIKE ‘%YM_56 except Like would return any record with a field value that contains YM_56 but with any number of characters prior to the M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r Expressions and “Cas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Expression matches are not limited by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elds containing sym_56 or sYM would be returned along with all other variations in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orce case sensitivity in a regular express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EXP BINARY ‘expression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EXP with Alterna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single pipe ‘|’ to relate two or more patt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EXP firstPattern | second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EXP firstPattern | secondPattern | third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GEXP matching any of a set of charac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list of acceptable characters goes in square brackets [ABC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aracters in [] are termed a s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RE fieldName REGEXP ‘[ABC]’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return any field containing A B or C in combination with any other charac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RE fieldName REGEXP ‘[ABC] large’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return records with fieldName containing A B or C and 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 negate a set: REGEXP ‘[^ABC]’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return on those records for which the field does not contain A, B or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GEXP matching a range of charac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EXP ‘[1234567890]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EXP ‘[1-9]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match any numeric 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EXP ‘[a-z]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ches any alpha character a through 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EXP ‘[a-d]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ches any alpha character a through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21:34:01Z</dcterms:created>
  <dc:creator>Charlie</dc:creator>
  <dc:description/>
  <dc:language>en-US</dc:language>
  <cp:lastModifiedBy>charliem</cp:lastModifiedBy>
  <dcterms:modified xsi:type="dcterms:W3CDTF">2010-12-06T21:38:58Z</dcterms:modified>
  <cp:revision>11</cp:revision>
  <dc:subject/>
  <dc:title>MySQL Regular Expressions</dc:title>
</cp:coreProperties>
</file>